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0C3-3E55-44F3-95E3-BF8D7BCB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E49-4B42-4E60-AEE1-36B1F9CF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719-D9D8-406B-ABEF-B25E09F3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8C7-40F8-4091-AFA9-A4A76C33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A67-5465-4F8F-AAAF-A580AB6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61A-E63A-4FE1-A5E4-B245C87A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8F9-70DD-46F6-B207-0D5ABF2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91E-C734-4DAD-8CC7-FF2C20AE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081-F551-4DA9-A1AB-2C78EC4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BF9-D2A8-4DC1-9489-90F37ED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49C-5C26-4CFB-BE30-EBED6831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350-5A8F-449A-959A-95D2855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E46D-2944-4755-B97F-7BA0D5D17B76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/23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7993080" cy="215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Minion"/>
              </a:rPr>
              <a:t>Mobile Phone Manager – mpm</a:t>
            </a:r>
            <a:br>
              <a:rPr sz="48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Call Control (CTI)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Minion"/>
              </a:rPr>
              <a:t>- Mobile Notifier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ndreas Beim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RD SWM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3-02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 (CTI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43440" y="2960640"/>
            <a:ext cx="35434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7934400" cy="47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3400" y="3011400"/>
            <a:ext cx="37404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98880" y="3316320"/>
            <a:ext cx="2806920" cy="253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556000" y="2707920"/>
            <a:ext cx="3744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275000" y="4532040"/>
            <a:ext cx="1656000" cy="46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02200" y="4421160"/>
            <a:ext cx="1650960" cy="1320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079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Call Control – directly from mpm-Organ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Dial calls directly from Outlook or Phone-Adressbook via PC (C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Handle calls via PC (Dial / Conference / Hang-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Recommended use with BT connection (maybe w/ heads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view with one cal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initiate and handle conferences via Virtual Conference Ro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1989000"/>
            <a:ext cx="6931080" cy="425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492280"/>
            <a:ext cx="1193760" cy="279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678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versation with one call on hol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69595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Call Control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Call Control – Conference with two people (up to 6 persons possibl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400" y="2179800"/>
            <a:ext cx="3961080" cy="257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35600" y="2181240"/>
            <a:ext cx="3475080" cy="165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46440" y="3174840"/>
            <a:ext cx="1633320" cy="874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305240" y="2752200"/>
            <a:ext cx="1341360" cy="64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89520" y="3987720"/>
            <a:ext cx="3390840" cy="2949480"/>
          </a:xfrm>
          <a:prstGeom prst="rect">
            <a:avLst/>
          </a:prstGeom>
          <a:solidFill>
            <a:srgbClr val="cc99ff">
              <a:alpha val="43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inion Bold"/>
              </a:rPr>
              <a:t>Easy conference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put back to single call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in additional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take out single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inion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Minion Bold"/>
              </a:rPr>
              <a:t>hang up whole conference 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MPM active in the system tr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88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incoming events (e.g. SMS, calls) an agent pops-up and offers handling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025880" y="2390760"/>
            <a:ext cx="3505320" cy="257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09960" y="5232240"/>
            <a:ext cx="3992760" cy="8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13440" y="4759200"/>
            <a:ext cx="986040" cy="327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5543640"/>
            <a:ext cx="986040" cy="53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136840" y="5033880"/>
            <a:ext cx="1903320" cy="550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39560" y="2309760"/>
            <a:ext cx="2768760" cy="363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2662200" y="2914560"/>
            <a:ext cx="154152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1d3e"/>
                </a:solidFill>
                <a:latin typeface="Minion"/>
              </a:rPr>
              <a:t>mpm </a:t>
            </a:r>
            <a:r>
              <a:rPr b="1" lang="en-GB" sz="3200" spc="-1" strike="noStrike">
                <a:solidFill>
                  <a:srgbClr val="000000"/>
                </a:solidFill>
                <a:latin typeface="Minion"/>
              </a:rPr>
              <a:t>– Mobile Notifier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Mobile Notifier: message handl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88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a0e66"/>
                </a:solidFill>
                <a:latin typeface="Minion"/>
              </a:rPr>
              <a:t>on demand incoming SMS gets directly opened via MPM Messenger by one Click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97400" y="2654280"/>
            <a:ext cx="1125360" cy="12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9560" y="2538360"/>
            <a:ext cx="2768760" cy="340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44920" y="2300400"/>
            <a:ext cx="4897440" cy="365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4640" y="3575160"/>
            <a:ext cx="3233880" cy="434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ombrowskic</cp:lastModifiedBy>
  <dcterms:modified xsi:type="dcterms:W3CDTF">2006-02-28T08:49:03Z</dcterms:modified>
  <cp:revision>52</cp:revision>
  <dc:subject/>
  <dc:title>PowerPoint 簡報</dc:title>
</cp:coreProperties>
</file>